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7297560" y="6519960"/>
            <a:ext cx="18734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3a4c69"/>
                </a:solidFill>
                <a:latin typeface="Arial"/>
              </a:rPr>
              <a:t>Oxford University Press España, S.A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7174080" y="6518160"/>
            <a:ext cx="255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a4c69"/>
                </a:solidFill>
                <a:latin typeface="Arial"/>
              </a:rPr>
              <a:t>©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73160" y="6622920"/>
            <a:ext cx="893520" cy="0"/>
          </a:xfrm>
          <a:prstGeom prst="line">
            <a:avLst/>
          </a:prstGeom>
          <a:ln w="9360">
            <a:solidFill>
              <a:srgbClr val="373b6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73160" y="6645240"/>
            <a:ext cx="893520" cy="0"/>
          </a:xfrm>
          <a:prstGeom prst="line">
            <a:avLst/>
          </a:prstGeom>
          <a:ln w="9360">
            <a:solidFill>
              <a:srgbClr val="373b6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564000" y="6624720"/>
            <a:ext cx="3600360" cy="0"/>
          </a:xfrm>
          <a:prstGeom prst="line">
            <a:avLst/>
          </a:prstGeom>
          <a:ln w="9360">
            <a:solidFill>
              <a:srgbClr val="373b6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3564000" y="6643800"/>
            <a:ext cx="3600360" cy="0"/>
          </a:xfrm>
          <a:prstGeom prst="line">
            <a:avLst/>
          </a:prstGeom>
          <a:ln w="9360">
            <a:solidFill>
              <a:srgbClr val="373b6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168120" y="830160"/>
            <a:ext cx="8834760" cy="5448240"/>
          </a:xfrm>
          <a:prstGeom prst="roundRect">
            <a:avLst>
              <a:gd name="adj" fmla="val 185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" descr=""/>
          <p:cNvPicPr/>
          <p:nvPr/>
        </p:nvPicPr>
        <p:blipFill>
          <a:blip r:embed="rId4"/>
          <a:stretch/>
        </p:blipFill>
        <p:spPr>
          <a:xfrm>
            <a:off x="2633760" y="6154560"/>
            <a:ext cx="66600" cy="95400"/>
          </a:xfrm>
          <a:prstGeom prst="rect">
            <a:avLst/>
          </a:prstGeom>
          <a:ln w="0">
            <a:noFill/>
          </a:ln>
        </p:spPr>
      </p:pic>
      <p:sp>
        <p:nvSpPr>
          <p:cNvPr id="10" name=""/>
          <p:cNvSpPr/>
          <p:nvPr/>
        </p:nvSpPr>
        <p:spPr>
          <a:xfrm>
            <a:off x="2652480" y="6094440"/>
            <a:ext cx="4012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PRESIONE LA BARRA ESPACIADORA PARA AVANZAR EN LOS CONTENIDO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" name="" descr=""/>
          <p:cNvPicPr/>
          <p:nvPr/>
        </p:nvPicPr>
        <p:blipFill>
          <a:blip r:embed="rId5"/>
          <a:stretch/>
        </p:blipFill>
        <p:spPr>
          <a:xfrm>
            <a:off x="7783560" y="264960"/>
            <a:ext cx="1074600" cy="500040"/>
          </a:xfrm>
          <a:prstGeom prst="rect">
            <a:avLst/>
          </a:prstGeom>
          <a:ln w="0">
            <a:noFill/>
          </a:ln>
        </p:spPr>
      </p:pic>
      <p:pic>
        <p:nvPicPr>
          <p:cNvPr id="12" name="" descr=""/>
          <p:cNvPicPr/>
          <p:nvPr/>
        </p:nvPicPr>
        <p:blipFill>
          <a:blip r:embed="rId6"/>
          <a:stretch/>
        </p:blipFill>
        <p:spPr>
          <a:xfrm>
            <a:off x="1158840" y="6488280"/>
            <a:ext cx="2333520" cy="276120"/>
          </a:xfrm>
          <a:prstGeom prst="rect">
            <a:avLst/>
          </a:prstGeom>
          <a:ln w="0">
            <a:noFill/>
          </a:ln>
        </p:spPr>
      </p:pic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11680" y="302400"/>
            <a:ext cx="40122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EL APARATO REPRODUCTOR FEMENIN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233360" y="1773360"/>
            <a:ext cx="6939000" cy="3611520"/>
          </a:xfrm>
          <a:prstGeom prst="rect">
            <a:avLst/>
          </a:prstGeom>
          <a:ln w="0">
            <a:noFill/>
          </a:ln>
        </p:spPr>
      </p:pic>
      <p:grpSp>
        <p:nvGrpSpPr>
          <p:cNvPr id="53" name=""/>
          <p:cNvGrpSpPr/>
          <p:nvPr/>
        </p:nvGrpSpPr>
        <p:grpSpPr>
          <a:xfrm>
            <a:off x="1215720" y="4437000"/>
            <a:ext cx="1268640" cy="396360"/>
            <a:chOff x="1215720" y="4437000"/>
            <a:chExt cx="1268640" cy="396360"/>
          </a:xfrm>
        </p:grpSpPr>
        <p:sp>
          <p:nvSpPr>
            <p:cNvPr id="54" name=""/>
            <p:cNvSpPr/>
            <p:nvPr/>
          </p:nvSpPr>
          <p:spPr>
            <a:xfrm>
              <a:off x="1215720" y="4587120"/>
              <a:ext cx="390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n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H="1">
              <a:off x="1547640" y="4437000"/>
              <a:ext cx="93672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2987640" y="3573360"/>
            <a:ext cx="2166840" cy="246240"/>
            <a:chOff x="2987640" y="3573360"/>
            <a:chExt cx="2166840" cy="246240"/>
          </a:xfrm>
        </p:grpSpPr>
        <p:sp>
          <p:nvSpPr>
            <p:cNvPr id="57" name=""/>
            <p:cNvSpPr/>
            <p:nvPr/>
          </p:nvSpPr>
          <p:spPr>
            <a:xfrm>
              <a:off x="4188960" y="3573360"/>
              <a:ext cx="965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vejiga urinari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>
              <a:off x="2987640" y="3716280"/>
              <a:ext cx="122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276720" y="3946680"/>
            <a:ext cx="1631880" cy="246240"/>
            <a:chOff x="3276720" y="3946680"/>
            <a:chExt cx="1631880" cy="246240"/>
          </a:xfrm>
        </p:grpSpPr>
        <p:sp>
          <p:nvSpPr>
            <p:cNvPr id="60" name=""/>
            <p:cNvSpPr/>
            <p:nvPr/>
          </p:nvSpPr>
          <p:spPr>
            <a:xfrm>
              <a:off x="4397040" y="3946680"/>
              <a:ext cx="511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uretr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276720" y="4076640"/>
              <a:ext cx="1150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4403520" y="4149720"/>
            <a:ext cx="2229120" cy="246240"/>
            <a:chOff x="4403520" y="4149720"/>
            <a:chExt cx="2229120" cy="246240"/>
          </a:xfrm>
        </p:grpSpPr>
        <p:sp>
          <p:nvSpPr>
            <p:cNvPr id="63" name=""/>
            <p:cNvSpPr/>
            <p:nvPr/>
          </p:nvSpPr>
          <p:spPr>
            <a:xfrm>
              <a:off x="4403520" y="4149720"/>
              <a:ext cx="552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vagin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903920" y="4292640"/>
              <a:ext cx="1728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3122280" y="4181400"/>
            <a:ext cx="3537000" cy="395640"/>
            <a:chOff x="3122280" y="4181400"/>
            <a:chExt cx="3537000" cy="395640"/>
          </a:xfrm>
        </p:grpSpPr>
        <p:grpSp>
          <p:nvGrpSpPr>
            <p:cNvPr id="66" name=""/>
            <p:cNvGrpSpPr/>
            <p:nvPr/>
          </p:nvGrpSpPr>
          <p:grpSpPr>
            <a:xfrm>
              <a:off x="4416120" y="4330800"/>
              <a:ext cx="2243160" cy="246240"/>
              <a:chOff x="4416120" y="4330800"/>
              <a:chExt cx="2243160" cy="246240"/>
            </a:xfrm>
          </p:grpSpPr>
          <p:sp>
            <p:nvSpPr>
              <p:cNvPr id="67" name=""/>
              <p:cNvSpPr/>
              <p:nvPr/>
            </p:nvSpPr>
            <p:spPr>
              <a:xfrm>
                <a:off x="4416120" y="4330800"/>
                <a:ext cx="4762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vulva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>
                <a:off x="4858920" y="4475160"/>
                <a:ext cx="1800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" name=""/>
            <p:cNvGrpSpPr/>
            <p:nvPr/>
          </p:nvGrpSpPr>
          <p:grpSpPr>
            <a:xfrm>
              <a:off x="3122280" y="4181400"/>
              <a:ext cx="1305000" cy="289080"/>
              <a:chOff x="3122280" y="4181400"/>
              <a:chExt cx="1305000" cy="289080"/>
            </a:xfrm>
          </p:grpSpPr>
          <p:sp>
            <p:nvSpPr>
              <p:cNvPr id="70" name=""/>
              <p:cNvSpPr/>
              <p:nvPr/>
            </p:nvSpPr>
            <p:spPr>
              <a:xfrm flipH="1">
                <a:off x="3122280" y="4470480"/>
                <a:ext cx="1305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V="1">
                <a:off x="3125880" y="4181400"/>
                <a:ext cx="0" cy="287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2843280" y="3162240"/>
            <a:ext cx="3762360" cy="246240"/>
            <a:chOff x="2843280" y="3162240"/>
            <a:chExt cx="3762360" cy="246240"/>
          </a:xfrm>
        </p:grpSpPr>
        <p:sp>
          <p:nvSpPr>
            <p:cNvPr id="73" name=""/>
            <p:cNvSpPr/>
            <p:nvPr/>
          </p:nvSpPr>
          <p:spPr>
            <a:xfrm>
              <a:off x="4428720" y="3162240"/>
              <a:ext cx="468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úter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843280" y="3284640"/>
              <a:ext cx="1619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859280" y="3284640"/>
              <a:ext cx="174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620240" y="2133720"/>
            <a:ext cx="1197360" cy="790560"/>
            <a:chOff x="4620240" y="2133720"/>
            <a:chExt cx="1197360" cy="790560"/>
          </a:xfrm>
        </p:grpSpPr>
        <p:sp>
          <p:nvSpPr>
            <p:cNvPr id="77" name=""/>
            <p:cNvSpPr/>
            <p:nvPr/>
          </p:nvSpPr>
          <p:spPr>
            <a:xfrm>
              <a:off x="4620240" y="2133720"/>
              <a:ext cx="1197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rompa de Falopi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651640" y="2349360"/>
              <a:ext cx="0" cy="57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"/>
          <p:cNvGrpSpPr/>
          <p:nvPr/>
        </p:nvGrpSpPr>
        <p:grpSpPr>
          <a:xfrm>
            <a:off x="2514600" y="3625920"/>
            <a:ext cx="4141440" cy="409680"/>
            <a:chOff x="2514600" y="3625920"/>
            <a:chExt cx="4141440" cy="409680"/>
          </a:xfrm>
        </p:grpSpPr>
        <p:sp>
          <p:nvSpPr>
            <p:cNvPr id="80" name=""/>
            <p:cNvSpPr/>
            <p:nvPr/>
          </p:nvSpPr>
          <p:spPr>
            <a:xfrm>
              <a:off x="4403520" y="3789360"/>
              <a:ext cx="513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érvix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flipH="1">
              <a:off x="2517840" y="3932280"/>
              <a:ext cx="1922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flipH="1">
              <a:off x="4860720" y="3940200"/>
              <a:ext cx="1795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514600" y="36259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2971800" y="2276640"/>
            <a:ext cx="4476600" cy="1081080"/>
            <a:chOff x="2971800" y="2276640"/>
            <a:chExt cx="4476600" cy="1081080"/>
          </a:xfrm>
        </p:grpSpPr>
        <p:grpSp>
          <p:nvGrpSpPr>
            <p:cNvPr id="85" name=""/>
            <p:cNvGrpSpPr/>
            <p:nvPr/>
          </p:nvGrpSpPr>
          <p:grpSpPr>
            <a:xfrm>
              <a:off x="6923160" y="2276640"/>
              <a:ext cx="525240" cy="1081080"/>
              <a:chOff x="6923160" y="2276640"/>
              <a:chExt cx="525240" cy="1081080"/>
            </a:xfrm>
          </p:grpSpPr>
          <p:sp>
            <p:nvSpPr>
              <p:cNvPr id="86" name=""/>
              <p:cNvSpPr/>
              <p:nvPr/>
            </p:nvSpPr>
            <p:spPr>
              <a:xfrm>
                <a:off x="6923160" y="2276640"/>
                <a:ext cx="5252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ovario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093080" y="2492280"/>
                <a:ext cx="0" cy="865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" name=""/>
            <p:cNvGrpSpPr/>
            <p:nvPr/>
          </p:nvGrpSpPr>
          <p:grpSpPr>
            <a:xfrm>
              <a:off x="2971800" y="2698200"/>
              <a:ext cx="1975680" cy="246240"/>
              <a:chOff x="2971800" y="2698200"/>
              <a:chExt cx="1975680" cy="246240"/>
            </a:xfrm>
          </p:grpSpPr>
          <p:sp>
            <p:nvSpPr>
              <p:cNvPr id="89" name=""/>
              <p:cNvSpPr/>
              <p:nvPr/>
            </p:nvSpPr>
            <p:spPr>
              <a:xfrm>
                <a:off x="4422240" y="2698200"/>
                <a:ext cx="5252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000" spc="-1" strike="noStrike">
                    <a:solidFill>
                      <a:srgbClr val="000000"/>
                    </a:solidFill>
                    <a:latin typeface="Arial"/>
                  </a:rPr>
                  <a:t>ovario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2971800" y="2819520"/>
                <a:ext cx="1498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tel mo</cp:lastModifiedBy>
  <dcterms:modified xsi:type="dcterms:W3CDTF">2006-07-27T15:40:13Z</dcterms:modified>
  <cp:revision>1</cp:revision>
  <dc:subject/>
  <dc:title>PowerPoint Presentation</dc:title>
</cp:coreProperties>
</file>